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0.jpeg" ContentType="image/jpeg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4.wmf" ContentType="image/x-wmf"/>
  <Override PartName="/ppt/media/image2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ABA-594A-4C35-B13D-35AAA326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688-7400-49D6-B236-57D3111E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905-7D2E-4A65-86FC-11B88444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E0B-35FD-4B6F-A40F-BE1AA88B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556-79A8-440E-9418-C9D1FC84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8C2-5DA5-456D-A88C-9CA2D45C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28A-BBA5-4033-BECB-975F4098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2A0-A8A9-4084-9D07-BB12BC34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CD1-3A2D-4199-B00B-E596370E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084-23C3-4CF2-B918-B10E9B6A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540-6A38-40FD-9E4C-53E46936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43F-9EAB-4BD3-B570-00EE569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1C7A-BF39-40A5-B91C-A72EAC88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rs.it/page.php?idarticolo=229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6032520"/>
            <a:ext cx="6858000" cy="337320"/>
          </a:xfrm>
          <a:prstGeom prst="rect">
            <a:avLst/>
          </a:prstGeom>
          <a:solidFill>
            <a:srgbClr val="e95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Simonetta Lingua – Vincenzo Rubino – 14 Dicembre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Immagine 1" descr=""/>
          <p:cNvPicPr/>
          <p:nvPr/>
        </p:nvPicPr>
        <p:blipFill>
          <a:blip r:embed="rId2"/>
          <a:stretch/>
        </p:blipFill>
        <p:spPr>
          <a:xfrm>
            <a:off x="3774960" y="228600"/>
            <a:ext cx="2473560" cy="549360"/>
          </a:xfrm>
          <a:prstGeom prst="rect">
            <a:avLst/>
          </a:prstGeom>
          <a:ln w="0">
            <a:noFill/>
          </a:ln>
        </p:spPr>
      </p:pic>
      <p:pic>
        <p:nvPicPr>
          <p:cNvPr id="44" name="Immagine 1" descr=""/>
          <p:cNvPicPr/>
          <p:nvPr/>
        </p:nvPicPr>
        <p:blipFill>
          <a:blip r:embed="rId3"/>
          <a:stretch/>
        </p:blipFill>
        <p:spPr>
          <a:xfrm>
            <a:off x="6477120" y="76320"/>
            <a:ext cx="880920" cy="67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7532640" y="228600"/>
            <a:ext cx="1382760" cy="54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21932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743200"/>
            <a:ext cx="5181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Dall’analisi dei bisog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alla Policy scola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752480" y="152280"/>
            <a:ext cx="1785960" cy="63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Immagine correlata"/>
          <p:cNvPicPr/>
          <p:nvPr/>
        </p:nvPicPr>
        <p:blipFill>
          <a:blip r:embed="rId6"/>
          <a:stretch/>
        </p:blipFill>
        <p:spPr>
          <a:xfrm>
            <a:off x="5638680" y="228600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752480" y="152280"/>
            <a:ext cx="1785960" cy="636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787400" y="152280"/>
            <a:ext cx="1785960" cy="6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7543800" y="228600"/>
            <a:ext cx="13827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116000" y="4941720"/>
            <a:ext cx="26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adottar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la policy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1628640"/>
            <a:ext cx="4851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La policy deve essere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validata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dall’intero Istituto e dal gruppo di lav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Devono essere individuate le figure (</a:t>
            </a:r>
            <a:r>
              <a:rPr b="1" i="1" lang="en-US" sz="2800" spc="-1" strike="noStrike">
                <a:solidFill>
                  <a:srgbClr val="000000"/>
                </a:solidFill>
                <a:latin typeface="HelveticaNeueLT Std"/>
              </a:rPr>
              <a:t>i ruoli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) che costituiscono i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garanti autorevoli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e di controllo della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657440"/>
            <a:ext cx="30956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404640"/>
            <a:ext cx="8534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In sede di validazione bisogna porre attenzion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Coerenza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della policy con le leggi e le normative scolastiche generali (sicurezza, privacy, lavoro, ec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La presenza di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tutti i rappresentanti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delle autorità incluse nella poli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La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fattibilità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(ragionevole, adeguata, sostenibi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Se fa riferimento a buone pratiche consolidate e se considera la lente dell’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equità e dell’inclusione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NeueLT Std"/>
              </a:rPr>
              <a:t>Quali benefit sono previsti per i responsabili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116000" y="4941720"/>
            <a:ext cx="26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sviluppar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la policy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349360"/>
            <a:ext cx="45464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LT Std"/>
              </a:rPr>
              <a:t>Attivare il processo e mettere in atto la policy in tutte le sue azioni previ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23532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762120" y="4495680"/>
            <a:ext cx="287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misurare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e valutar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4419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a valutazione di una policy deve includ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’osservazione del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Il monitoraggio delle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a misurazione dei ris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a valutazione dei suc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’attenzione all’attuazione dei ruoli e delle regole desig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528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14360" y="4491000"/>
            <a:ext cx="3240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documentare 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diffondere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i risultati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168720" cy="3014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55960" y="1160640"/>
            <a:ext cx="4546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osa comunicare?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I risultati che la politica scolastica sta ottenendo (destinatari intermedi e final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ome?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HelveticaNeueLT Std"/>
              </a:rPr>
              <a:t>Creando collegament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tra il benessere, esiti della didattica, le ricerche consultate, le azioni e le metodologie adottate e gli attori responsab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A chi?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A tutta la comunità scolastica, il territorio e gli stakeholder, i partner, i politici, ec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19376" t="24504" r="19376" b="7032"/>
          <a:stretch/>
        </p:blipFill>
        <p:spPr>
          <a:xfrm>
            <a:off x="228600" y="1143000"/>
            <a:ext cx="5199120" cy="464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69696b"/>
                </a:solidFill>
                <a:latin typeface="HelveticaNeueLT Std Ext"/>
              </a:rPr>
              <a:t>Uno strumento “step by step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Immagine correlata"/>
          <p:cNvPicPr/>
          <p:nvPr/>
        </p:nvPicPr>
        <p:blipFill>
          <a:blip r:embed="rId2"/>
          <a:stretch/>
        </p:blipFill>
        <p:spPr>
          <a:xfrm>
            <a:off x="5715000" y="2362320"/>
            <a:ext cx="3105000" cy="2276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219320" cy="76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21251" t="12500" r="18751" b="7032"/>
          <a:stretch/>
        </p:blipFill>
        <p:spPr>
          <a:xfrm>
            <a:off x="2057400" y="2666880"/>
            <a:ext cx="3549600" cy="3810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Riferimenti per l’approfondim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066680"/>
            <a:ext cx="815328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Rete SHE Piemonte: 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HelveticaNeueLT Std"/>
                <a:hlinkClick r:id="rId2"/>
              </a:rPr>
              <a:t>http://www.dors.it/page.php?idarticolo=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Esempio di policy scolastica: http://www.schools-for-health.eu/uploads/files/HEPS%20Tool%20for%20schools%20HRe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Esempio di scuola irlandese che adotta policy intersettoriali: https://d7educatetogether.com/index.php/school-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Esempio di policy della Regione Europea dell’OMS: http://www.euro.who.int/__data/assets/pdf_file/0019/152218/E8950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Attività fisica a scuola: http://www.dors.it/documentazione/testo/201501/Dors_28marzo14_Verona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Piattaforma nazionale educazione stradale: http://www.edustrada.it/elenco-materia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Buona Pratica europea ACTIVE SCHOOL (scuola che promuove l’attività fisica): http://activeschoolflag.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85840" y="428760"/>
            <a:ext cx="862956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HelveticaNeueLT Std"/>
              </a:rPr>
              <a:t>Cos’è una policy scolastic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policy intersettoriale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 è un documento prodotto in un contesto determinato (azienda, scuola, associazione, ospedale, ecc.)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per promuovere e condividere le buone pratiche al proprio inte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Una policy deve essere in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formato scritto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, deve essere chiara, riguardare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tutti i possibili destinatari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 ed essere adeguatamente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diffusa e conosciuta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La policy dovrebbe essere </a:t>
            </a:r>
            <a:r>
              <a:rPr b="1" lang="en-US" sz="1800" spc="-1" strike="noStrike">
                <a:solidFill>
                  <a:srgbClr val="000000"/>
                </a:solidFill>
                <a:latin typeface="HelveticaNeueLT Std"/>
              </a:rPr>
              <a:t>in linea con le altre politiche</a:t>
            </a: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 e procedure già presenti nell’organizz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HelveticaNeueLT Std"/>
              </a:rPr>
              <a:t>Il contenuto della policy dipenderà in gran parte dal tipo di realtà, dalle dimensioni, dalla struttura, dalle finalità e dalla cultura dell’organizzazion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Una policy si prefigge di definire con chiarezza parametri, regole e procedure di attuazione, modalità di gestione dei probl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Oval 7"/>
          <p:cNvSpPr/>
          <p:nvPr/>
        </p:nvSpPr>
        <p:spPr>
          <a:xfrm>
            <a:off x="304920" y="228600"/>
            <a:ext cx="8534160" cy="63244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Una policy è un </a:t>
            </a:r>
            <a:r>
              <a:rPr b="1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piano di azione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concordat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tra i soggetti che hanno la facoltà di intraprenderlo e sostene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Le policy </a:t>
            </a:r>
            <a:r>
              <a:rPr b="1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delineano la cultura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della comunità scolastica definendo valori, convinzioni, traguardi accettabili e azioni atte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Influenzano il funzionamento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della scuola, cosa è insegnato e come interagiscono docenti, studenti e famigl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Le </a:t>
            </a:r>
            <a:r>
              <a:rPr b="1" lang="it-IT" sz="18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policy intersettoriali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possono focalizzarsi su </a:t>
            </a:r>
            <a:r>
              <a:rPr b="1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temi specifici</a:t>
            </a:r>
            <a:r>
              <a:rPr b="0" lang="it-IT" sz="2000" spc="-1" strike="noStrike">
                <a:solidFill>
                  <a:srgbClr val="000000"/>
                </a:solidFill>
                <a:latin typeface="HelveticaNeueLT Std Lt"/>
                <a:ea typeface="Arial Unicode MS"/>
              </a:rPr>
              <a:t> o essere finalizzate più ampiamente all’organizzazione sco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61056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Cosa contiene una policy scolas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Una policy scolastica fornisce linee guida specifiche circa le strategie necessarie per raggiungere una mission condivisa e/o modificare dei comport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HelveticaNeueLT Std"/>
              </a:rPr>
              <a:t>Il documento di policy dovrà contener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L’analisi dei bisogni della scuola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e della sua comunità che la circonda riguardo ai temi consider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descrizione dei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valor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della scuola circa i te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gli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scopi general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e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gli obiettivi specific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in armonia con valori educazionali generali della scuo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risorse disponibil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per lo sviluppo della policy scolast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un piano di implementazion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di monitoraggio e di valutazion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aspetti della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comunicazione e organizzazion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 </a:t>
            </a:r>
            <a:r>
              <a:rPr b="1" lang="it-IT" sz="24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risultati attesi a breve e lungo termin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6250" t="12500" r="23126" b="7032"/>
          <a:stretch/>
        </p:blipFill>
        <p:spPr>
          <a:xfrm>
            <a:off x="228600" y="2438280"/>
            <a:ext cx="3355920" cy="426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29376" t="16405" r="26875" b="15626"/>
          <a:stretch/>
        </p:blipFill>
        <p:spPr>
          <a:xfrm>
            <a:off x="4192560" y="3962520"/>
            <a:ext cx="2084400" cy="2590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0002" t="14065" r="27501" b="32814"/>
          <a:stretch/>
        </p:blipFill>
        <p:spPr>
          <a:xfrm>
            <a:off x="6400800" y="3809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2133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Esempi di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HelveticaNeueLT Std"/>
                <a:ea typeface="Arial Unicode MS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2286000"/>
            <a:ext cx="21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ttività fisica 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limen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324480"/>
            <a:ext cx="2514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Sicurezza e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rcRect l="11249" t="10938" r="13749" b="3127"/>
          <a:stretch/>
        </p:blipFill>
        <p:spPr>
          <a:xfrm>
            <a:off x="4038480" y="0"/>
            <a:ext cx="2438640" cy="335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rcRect l="29376" t="10938" r="13749" b="4688"/>
          <a:stretch/>
        </p:blipFill>
        <p:spPr>
          <a:xfrm>
            <a:off x="6248520" y="228600"/>
            <a:ext cx="2374920" cy="2819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1362240"/>
            <a:ext cx="2514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Bisogni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educativi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spe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276720"/>
            <a:ext cx="2514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involgimento dei gen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09480" y="4572000"/>
            <a:ext cx="2664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costruzione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del gruppo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di lavoro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952720" cy="2809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6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1557360"/>
            <a:ext cx="51847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NeueLT Std"/>
              </a:rPr>
              <a:t>Chi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"/>
              </a:rPr>
              <a:t>deve essere invitato al </a:t>
            </a:r>
            <a:r>
              <a:rPr b="1" lang="en-US" sz="2000" spc="-1" strike="noStrike">
                <a:solidFill>
                  <a:srgbClr val="000000"/>
                </a:solidFill>
                <a:latin typeface="HelveticaNeueLT Std"/>
              </a:rPr>
              <a:t>tavolo di lavoro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"/>
              </a:rPr>
              <a:t> che si occuperà di raggiungere gli obiettivi prioritari per l’oggetto della poli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Dirigente scolastico e do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Fami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Stu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Personale amministr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Personale 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Associ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Esperti dell’A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"/>
              </a:rPr>
              <a:t>-Politici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2120" y="4572000"/>
            <a:ext cx="26636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valutare l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circostanze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288108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24360" y="1628640"/>
            <a:ext cx="4762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Quali strategie ed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evidenze positive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esistono attorno al tema oggetto della policy, che riguardano la scuola? Quali buone pratiche? Quali sono di nostro interesse? Quali </a:t>
            </a:r>
            <a:r>
              <a:rPr b="1" lang="en-US" sz="2800" spc="-1" strike="noStrike">
                <a:solidFill>
                  <a:srgbClr val="000000"/>
                </a:solidFill>
                <a:latin typeface="HelveticaNeueLT Std"/>
              </a:rPr>
              <a:t>reti o scuole</a:t>
            </a:r>
            <a:r>
              <a:rPr b="0" lang="en-US" sz="2800" spc="-1" strike="noStrike">
                <a:solidFill>
                  <a:srgbClr val="000000"/>
                </a:solidFill>
                <a:latin typeface="HelveticaNeueLT Std"/>
              </a:rPr>
              <a:t> lavorano già sui temi che sono stati scel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217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116000" y="4941720"/>
            <a:ext cx="26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scrivere 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bfd636">
                      <a:alpha val="50000"/>
                    </a:srgbClr>
                  </a:outerShdw>
                </a:effectLst>
                <a:latin typeface="Arial Black"/>
              </a:rPr>
              <a:t>la policy</a:t>
            </a:r>
            <a:endParaRPr b="0" lang="en-US" sz="2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bfd63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E’ necessario mettere per iscritto le linee guida specifiche che l’Istituto intende perseguire sul tema della policy, domandando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Dove……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HI 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f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Quando…  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OSA FA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Come….     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PERCH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9696b"/>
                </a:solidFill>
                <a:latin typeface="HelveticaNeueLT Std Ext"/>
              </a:rPr>
              <a:t>Il processo di policy: 7 f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585800"/>
            <a:ext cx="31672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260280"/>
            <a:ext cx="861048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9696b"/>
              </a:buClr>
              <a:buFont typeface="HelveticaNeueLT Std 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9696b"/>
                </a:solidFill>
                <a:latin typeface="HelveticaNeueLT Std Ext"/>
              </a:rPr>
              <a:t>La policy e le procedure individuate dovranno contenere:</a:t>
            </a:r>
            <a:br>
              <a:rPr sz="2400"/>
            </a:br>
            <a:r>
              <a:rPr b="1" lang="it-IT" sz="2400" spc="-1" strike="noStrike">
                <a:solidFill>
                  <a:srgbClr val="69696b"/>
                </a:solidFill>
                <a:latin typeface="HelveticaNeueLT St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Dichiarazione dello scopo, ovvero l’obiettivo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 principi e i va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Gli obiettivi specif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Le strat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Le azioni specif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 risultati deside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Gli Indicatori di risu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 piani di realizzazione e gestione (organigramma, cronoprogram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Processo di valutazione (monitoraggio del processo, valutazione dei risultati, revisione delle priorità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08:58:08Z</dcterms:created>
  <dc:creator>vincenzo rubino</dc:creator>
  <dc:description/>
  <dc:language>en-US</dc:language>
  <cp:lastModifiedBy>vincenzorubino</cp:lastModifiedBy>
  <dcterms:modified xsi:type="dcterms:W3CDTF">2018-01-15T10:46:0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