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B391-E7AD-4C1C-A986-A5BE3533A7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132440" y="9074160"/>
            <a:ext cx="316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0AC01949-FA90-4A6B-8802-7C9C47DF5383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-39960" bIns="-5472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D9AFE1F-1470-4412-BA16-E14713DAC640}" type="slidenum">
              <a:rPr b="0" lang="it-IT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fld id="{24F4E74D-225B-401A-9FFB-FC0EF3A58232}" type="slidenum">
              <a:rPr b="0" lang="it-IT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E6E-9E4A-47B9-95B4-15D88E5D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94F-3114-4D92-9981-C9B228B5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843-F086-4CF9-8CA2-CC23C069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4F2-6125-43C0-A9CB-53EAF626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F49-918D-4A61-8B20-4366DB03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1BC-3FB9-45AD-B07C-5048493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D61-97F9-46D9-A8D9-A7027137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86A-3800-46E0-8FB3-7D222B5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703-F09C-4077-A1DF-12DE595D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14A-22CF-4726-8ED0-E4C75DB6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E5E-49A2-4A12-9A85-59B217FD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1EC-7F70-47A4-B16D-F68F594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175B-ECFB-428C-8C4A-A537D7EA4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6032520"/>
            <a:ext cx="6858000" cy="824040"/>
          </a:xfrm>
          <a:prstGeom prst="rect">
            <a:avLst/>
          </a:prstGeom>
          <a:solidFill>
            <a:srgbClr val="e95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Simonetta Lingua – Vincenzo Rubino - Annamaria Capra – Sara Coccolo - Daniela Pi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24 Ottobre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1" descr=""/>
          <p:cNvPicPr/>
          <p:nvPr/>
        </p:nvPicPr>
        <p:blipFill>
          <a:blip r:embed="rId2"/>
          <a:stretch/>
        </p:blipFill>
        <p:spPr>
          <a:xfrm>
            <a:off x="3774960" y="228600"/>
            <a:ext cx="247356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1" descr=""/>
          <p:cNvPicPr/>
          <p:nvPr/>
        </p:nvPicPr>
        <p:blipFill>
          <a:blip r:embed="rId3"/>
          <a:stretch/>
        </p:blipFill>
        <p:spPr>
          <a:xfrm>
            <a:off x="6477120" y="76320"/>
            <a:ext cx="880920" cy="674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7532640" y="228600"/>
            <a:ext cx="1382760" cy="5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2276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8600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124080"/>
            <a:ext cx="8424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ercor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80880"/>
            <a:ext cx="91440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Favorire lo sviluppo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mpetenze progettuali multidisciplinari e interdisciplinar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nei docenti con ruolo di coordinamento all’interno dell’Istituzione scolastica, necessarie per l’elaborazione di policy che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otenzino l’Educazione alla sicurezza stradale, attraverso l’azione trasversale sui temi di salute e dei corretti stili di vit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promuovere l’apprendimento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metodologie di lavoro per co-progettar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con gli studenti e le famiglie, la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romozione di comportament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stradali 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n linea con la salute e la salvaguardia della vita, incentivando forme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mobilità alternativ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e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revenzione del rischio stradal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FINALITA’ DELLA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657440"/>
            <a:ext cx="91440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iffondere, all’interno dell’Istituzione scolastica, (tra docenti, studenti, personale ATA e famiglie)  la consapevolezza che la promozione della salute favorisce il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benessere emotivo, cognitivo e relazionale delle perso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secondo l’approccio globale delle Scuole che Promuovono Sal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trasmettere e valorizzare un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metodo organizzativo partecipato e dialogico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all’interno del </a:t>
            </a:r>
            <a:r>
              <a:rPr b="0" i="1" lang="it-IT" sz="2400" spc="-1" strike="noStrike">
                <a:solidFill>
                  <a:srgbClr val="000000"/>
                </a:solidFill>
                <a:latin typeface="HelveticaNeueLT Std"/>
              </a:rPr>
              <a:t>setting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scuola, che influenzi e permei la didattica e lo stile di insegnamento, la pianificazione del lavoro d’equipe e la gestione delle relazioni interpersonali, in ogni ambiente scolas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FINALITA’ DELLA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876320"/>
            <a:ext cx="70102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520" y="3048120"/>
            <a:ext cx="8425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rofilo dei form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6032520"/>
            <a:ext cx="4932360" cy="580680"/>
          </a:xfrm>
          <a:prstGeom prst="rect">
            <a:avLst/>
          </a:prstGeom>
          <a:solidFill>
            <a:srgbClr val="e95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Simonetta Lingua – Vincenzo Rub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24 Ottobre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1" descr=""/>
          <p:cNvPicPr/>
          <p:nvPr/>
        </p:nvPicPr>
        <p:blipFill>
          <a:blip r:embed="rId2"/>
          <a:stretch/>
        </p:blipFill>
        <p:spPr>
          <a:xfrm>
            <a:off x="3774960" y="228600"/>
            <a:ext cx="247356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1" descr=""/>
          <p:cNvPicPr/>
          <p:nvPr/>
        </p:nvPicPr>
        <p:blipFill>
          <a:blip r:embed="rId3"/>
          <a:stretch/>
        </p:blipFill>
        <p:spPr>
          <a:xfrm>
            <a:off x="6477120" y="76320"/>
            <a:ext cx="880920" cy="67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7532640" y="228600"/>
            <a:ext cx="1382760" cy="54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2276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048120"/>
            <a:ext cx="8425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rofilo dei form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28600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048120"/>
            <a:ext cx="8425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rofilo dei form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680" y="3214800"/>
            <a:ext cx="9139320" cy="36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DOVE TROVARE I FORMATO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609480"/>
            <a:ext cx="83059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ASL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UST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SCUOLE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Dirigenti scolasti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Referenti di…delle s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Re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Oper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Profession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76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CARATTERISTICHE FORMATORI PLEN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33520"/>
            <a:ext cx="88394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"/>
              </a:rPr>
              <a:t>CAPACITA’ DI ESPORRE I CONTENUTI DEL PROGETTO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sicurezza e educazione stradale, promozione della salute e attività fis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il ruolo del referente all’interno del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l’analisi dei bisogni nella scuola e il concetto di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la didattica interdiscipl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"/>
              </a:rPr>
              <a:t>UTILIZZO DI SUPPORTI MULTIMED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"/>
              </a:rPr>
              <a:t>CAPACITA’ DI GESTIRE PLENARIA NUME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6095880" cy="2971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481320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I contenuti da esporre saranno forniti dai coordinatori del progetto sottoforma di documenti, slide e sit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CARATTERISTICHE FORMATORI WORKSHOP 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19320"/>
            <a:ext cx="502920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Gestire e supervisionare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un’attività di gruppo (da 8 a 20 partecipa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Utilizzare le tecniche più note di </a:t>
            </a: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nduzione di gruppo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(tecnica del brainstorming, tecnica snowball e del nominal group, role play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ornire feedback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costruttivi, sia positivi sia negativi, circa il livello meta-comunicativ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ostenere l’ascolto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dialogico, la comunicazione proattiva e non conflittuale tra i partecip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Incoraggiare e modulare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gli interventi liberi</a:t>
            </a:r>
            <a:r>
              <a:rPr b="0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in plenaria (100 partecipa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omministrare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test di gradimento/autovalu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(Leggere in modo critico i risultati del perco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4120" y="533520"/>
            <a:ext cx="3809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181480" cy="533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162920" y="2133720"/>
            <a:ext cx="1828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i formatori dei workshop DEVONO essere gli stessi a condurre la parte conclusiv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057400"/>
            <a:ext cx="1904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i conduttori della parte informativa iniziale in plenaria POSSONO eventualmente essere altri forma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41200" y="15228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D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523880" y="762120"/>
            <a:ext cx="6504120" cy="40860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HelveticaNeueLT Std"/>
              </a:rPr>
              <a:t>possibili formatori da coinvolg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HelveticaNeueLT Std"/>
              </a:rPr>
              <a:t>criticità che possano influire su fatti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3394080"/>
            <a:ext cx="7596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5857920" cy="585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707760"/>
            <a:ext cx="28195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vorare nell’ottica di creare connessioni  tra sicurezza strad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sal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educazione fisica 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eg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stili di vita attivi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86320" cy="510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DISEGNO DEL 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mmagine6"/>
          <p:cNvPicPr/>
          <p:nvPr/>
        </p:nvPicPr>
        <p:blipFill>
          <a:blip r:embed="rId1"/>
          <a:stretch/>
        </p:blipFill>
        <p:spPr>
          <a:xfrm>
            <a:off x="34920" y="36180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895480" y="2438280"/>
            <a:ext cx="2059200" cy="1113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GRUPPO DI LAVORO CON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562720" y="2362320"/>
            <a:ext cx="270648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in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obiettiv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organizzazione 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magine4"/>
          <p:cNvPicPr/>
          <p:nvPr/>
        </p:nvPicPr>
        <p:blipFill>
          <a:blip r:embed="rId1"/>
          <a:stretch/>
        </p:blipFill>
        <p:spPr>
          <a:xfrm>
            <a:off x="0" y="36180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895480" y="2438280"/>
            <a:ext cx="2059200" cy="1113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Grupp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562720" y="2362320"/>
            <a:ext cx="270648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att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 livello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Immagine3"/>
          <p:cNvPicPr/>
          <p:nvPr/>
        </p:nvPicPr>
        <p:blipFill>
          <a:blip r:embed="rId1"/>
          <a:stretch/>
        </p:blipFill>
        <p:spPr>
          <a:xfrm>
            <a:off x="0" y="36180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04920" y="763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895480" y="2438280"/>
            <a:ext cx="2059200" cy="773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Formazione 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562720" y="2362320"/>
            <a:ext cx="27064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Valorizzazione storie l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re” uguale per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Immagine3"/>
          <p:cNvPicPr/>
          <p:nvPr/>
        </p:nvPicPr>
        <p:blipFill>
          <a:blip r:embed="rId1"/>
          <a:stretch/>
        </p:blipFill>
        <p:spPr>
          <a:xfrm>
            <a:off x="0" y="29052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74680" y="4179960"/>
            <a:ext cx="2060640" cy="43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895480" y="2438280"/>
            <a:ext cx="2059200" cy="773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pil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562720" y="2362320"/>
            <a:ext cx="27064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Test di fattibilità modifiche e adatt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35" descr="Immagine2"/>
          <p:cNvPicPr/>
          <p:nvPr/>
        </p:nvPicPr>
        <p:blipFill>
          <a:blip r:embed="rId1"/>
          <a:stretch/>
        </p:blipFill>
        <p:spPr>
          <a:xfrm>
            <a:off x="0" y="29052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74680" y="4179960"/>
            <a:ext cx="2060640" cy="43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4920" y="763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895480" y="243828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Formazione per la figura di ‘Referente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562720" y="2362320"/>
            <a:ext cx="270648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ormazione trasver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Territori coinvol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mpeten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895480" y="243828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Formazione per la figura di ‘Referente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362320"/>
            <a:ext cx="270648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ormazione trasver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Territori coinvol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mpeten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4191120"/>
            <a:ext cx="2060280" cy="43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925720" y="244944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Formazione per la figura di ‘Referente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hutterstock_121335805"/>
          <p:cNvPicPr/>
          <p:nvPr/>
        </p:nvPicPr>
        <p:blipFill>
          <a:blip r:embed="rId1"/>
          <a:stretch/>
        </p:blipFill>
        <p:spPr>
          <a:xfrm>
            <a:off x="0" y="360360"/>
            <a:ext cx="2610000" cy="3068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925720" y="244944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Laboratori di ricerca-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592600" y="2209680"/>
            <a:ext cx="286560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pprofondimento metod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ccompagnamento nei proces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attibilità nelle scu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9:14:10Z</dcterms:created>
  <dc:creator>vincenzo rubino</dc:creator>
  <dc:description/>
  <dc:language>en-US</dc:language>
  <cp:lastModifiedBy>vincenzorubino</cp:lastModifiedBy>
  <dcterms:modified xsi:type="dcterms:W3CDTF">2018-01-15T11:11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